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ED0-94E9-4136-AE9F-C36BA7F0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1B7-48EF-41B3-A2F3-B456285A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E70-85DA-481C-86BF-34D9E8D8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23F-F16E-4285-8626-52DBB9EC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DC91-B717-4133-A2DA-E1127BFA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3C97-F7BB-4384-BC48-4C05513B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1816-F1A7-4EB2-8C2C-0869CB47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F5D7-C6BE-4395-AFF4-597E7EBE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D266-33A2-4EF3-9111-8C18A942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777D-B83F-4352-B3CC-5E4C6DEC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23D8-877C-4256-A091-BCB7B30C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710-E667-44BA-AF4D-BA6E14AC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4588-314F-4ECA-A083-8837AFDD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AA2C-5F33-4DC3-AC9A-FC3867F1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E366-BDB7-494D-AA0D-610752E4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DCF6-C1CE-4BAE-B041-C0596545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34E6-BE7E-4713-99AB-05EF7896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A8F-7AF1-4D85-83DA-9A69EE2B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D0B-E3B4-46F9-82AF-17F226F3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F1E-1DF1-4C5F-A8D7-CB988E23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1F4-16A6-4516-9DC1-59D58947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D96D-E69C-4F11-8D92-DFD4F2BF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E5C-EA1C-459D-A4CE-3463614E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10CF-24AE-4EA3-97D1-CC3FDE8C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5F6F-012C-4518-8E21-549BF66E500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516F-EEB1-4C6B-AED4-03B47BD8D97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5419800" cy="1809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843280" y="333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OBLEMA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5229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álisis quím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89960" y="4870440"/>
            <a:ext cx="9126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0 má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65840" y="4870440"/>
            <a:ext cx="92412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38840" y="4870440"/>
            <a:ext cx="927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0 má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13280" y="4870440"/>
            <a:ext cx="9255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0 má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86280" y="4870440"/>
            <a:ext cx="927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0 má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62160" y="4870440"/>
            <a:ext cx="92412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0 má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35160" y="4870440"/>
            <a:ext cx="927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0 – 1,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4870440"/>
            <a:ext cx="876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5 – 0,9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4870440"/>
            <a:ext cx="64764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89960" y="4510080"/>
            <a:ext cx="9126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0 má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65840" y="4510080"/>
            <a:ext cx="92412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0 – 0,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38840" y="4510080"/>
            <a:ext cx="927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13280" y="4510080"/>
            <a:ext cx="9255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0 má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86280" y="4510080"/>
            <a:ext cx="927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0 – 0,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62160" y="4510080"/>
            <a:ext cx="92412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0 má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5160" y="4510080"/>
            <a:ext cx="927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0 – 1,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4510080"/>
            <a:ext cx="876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5 – 1,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4510080"/>
            <a:ext cx="64764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89960" y="4149720"/>
            <a:ext cx="91260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65840" y="4149720"/>
            <a:ext cx="92412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38840" y="4149720"/>
            <a:ext cx="92700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13280" y="4149720"/>
            <a:ext cx="92556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86280" y="4149720"/>
            <a:ext cx="92700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62160" y="4149720"/>
            <a:ext cx="92412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5160" y="4149720"/>
            <a:ext cx="92700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4149720"/>
            <a:ext cx="87624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4149720"/>
            <a:ext cx="64764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4149720"/>
            <a:ext cx="7991280" cy="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230800"/>
            <a:ext cx="7991280" cy="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4149720"/>
            <a:ext cx="0" cy="108108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02560" y="4149720"/>
            <a:ext cx="0" cy="108108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4510080"/>
            <a:ext cx="7991280" cy="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4149720"/>
            <a:ext cx="0" cy="108108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5160" y="4149720"/>
            <a:ext cx="0" cy="108108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62160" y="4149720"/>
            <a:ext cx="0" cy="108108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86280" y="4149720"/>
            <a:ext cx="0" cy="108108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13280" y="4149720"/>
            <a:ext cx="0" cy="108108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38840" y="4149720"/>
            <a:ext cx="0" cy="108108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65840" y="4149720"/>
            <a:ext cx="0" cy="108108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89960" y="4149720"/>
            <a:ext cx="0" cy="108108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870440"/>
            <a:ext cx="7991280" cy="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00720" y="638172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Metalotecnia. E.T.S.I.M.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258920" y="0"/>
            <a:ext cx="8066160" cy="6863400"/>
            <a:chOff x="1258920" y="0"/>
            <a:chExt cx="8066160" cy="6863400"/>
          </a:xfrm>
        </p:grpSpPr>
        <p:sp>
          <p:nvSpPr>
            <p:cNvPr id="226" name=""/>
            <p:cNvSpPr/>
            <p:nvPr/>
          </p:nvSpPr>
          <p:spPr>
            <a:xfrm>
              <a:off x="2765520" y="0"/>
              <a:ext cx="34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25720" y="5229360"/>
              <a:ext cx="13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Fig. II.17.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508720" y="2924280"/>
              <a:ext cx="0" cy="17287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24000" y="3141720"/>
              <a:ext cx="352764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24000" y="285264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258920" y="907920"/>
              <a:ext cx="6502320" cy="4316400"/>
              <a:chOff x="1258920" y="907920"/>
              <a:chExt cx="6502320" cy="4316400"/>
            </a:xfrm>
          </p:grpSpPr>
          <p:pic>
            <p:nvPicPr>
              <p:cNvPr id="2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58920" y="907920"/>
                <a:ext cx="6502320" cy="431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"/>
              <p:cNvSpPr/>
              <p:nvPr/>
            </p:nvSpPr>
            <p:spPr>
              <a:xfrm flipH="1">
                <a:off x="6875280" y="1195200"/>
                <a:ext cx="142920" cy="2174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46920" y="907920"/>
                <a:ext cx="7192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H = 0,8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6299280" y="1844280"/>
                <a:ext cx="0" cy="287964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906560" y="1915920"/>
                <a:ext cx="446400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74920" y="170028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1,65”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154920" y="4724280"/>
                <a:ext cx="36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3300"/>
                    </a:solidFill>
                    <a:latin typeface="Times New Roman"/>
                  </a:rPr>
                  <a:t>2,6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154920" y="1771560"/>
                <a:ext cx="287280" cy="28908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46560" y="2563920"/>
                <a:ext cx="28764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91280" y="2636640"/>
                <a:ext cx="0" cy="208764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906560" y="2708280"/>
                <a:ext cx="3456000" cy="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474920" y="263664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1,15”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2384280" y="5516640"/>
              <a:ext cx="4249800" cy="11167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66ff"/>
                  </a:solidFill>
                  <a:latin typeface="Times New Roman"/>
                </a:rPr>
                <a:t>Acero O1: D</a:t>
              </a:r>
              <a:r>
                <a:rPr b="1" lang="es-ES" sz="2400" spc="-1" strike="noStrike" baseline="-25000">
                  <a:solidFill>
                    <a:srgbClr val="0066ff"/>
                  </a:solidFill>
                  <a:latin typeface="Times New Roman"/>
                </a:rPr>
                <a:t>cr</a:t>
              </a:r>
              <a:r>
                <a:rPr b="1" lang="es-ES" sz="2400" spc="-1" strike="noStrike">
                  <a:solidFill>
                    <a:srgbClr val="0066ff"/>
                  </a:solidFill>
                  <a:latin typeface="Times New Roman"/>
                </a:rPr>
                <a:t> = 1,65” (42 mm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ff"/>
                  </a:solidFill>
                  <a:latin typeface="Times New Roman"/>
                </a:rPr>
                <a:t>Acero O2: D</a:t>
              </a:r>
              <a:r>
                <a:rPr b="1" lang="es-ES" sz="2400" spc="-1" strike="noStrike" baseline="-25000">
                  <a:solidFill>
                    <a:srgbClr val="ff00ff"/>
                  </a:solidFill>
                  <a:latin typeface="Times New Roman"/>
                </a:rPr>
                <a:t>cr</a:t>
              </a:r>
              <a:r>
                <a:rPr b="1" lang="es-ES" sz="2400" spc="-1" strike="noStrike">
                  <a:solidFill>
                    <a:srgbClr val="ff00ff"/>
                  </a:solidFill>
                  <a:latin typeface="Times New Roman"/>
                </a:rPr>
                <a:t> = 1,15” (29 mm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40360" y="6278400"/>
              <a:ext cx="338472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43280" y="333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OBLEMA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00720" y="638172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Metalotecnia. E.T.S.I.M.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9640" y="1484280"/>
          <a:ext cx="8302680" cy="4614840"/>
        </p:xfrm>
        <a:graphic>
          <a:graphicData uri="http://schemas.openxmlformats.org/drawingml/2006/table">
            <a:tbl>
              <a:tblPr/>
              <a:tblGrid>
                <a:gridCol w="1224000"/>
                <a:gridCol w="1614600"/>
                <a:gridCol w="1820880"/>
                <a:gridCol w="1822320"/>
                <a:gridCol w="1820880"/>
              </a:tblGrid>
              <a:tr h="658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es-E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”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es-E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”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es-E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 mm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O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1,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0,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O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1,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O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1,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,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900000" y="230040"/>
            <a:ext cx="8172360" cy="6633360"/>
            <a:chOff x="900000" y="230040"/>
            <a:chExt cx="8172360" cy="6633360"/>
          </a:xfrm>
        </p:grpSpPr>
        <p:grpSp>
          <p:nvGrpSpPr>
            <p:cNvPr id="250" name=""/>
            <p:cNvGrpSpPr/>
            <p:nvPr/>
          </p:nvGrpSpPr>
          <p:grpSpPr>
            <a:xfrm>
              <a:off x="900000" y="230040"/>
              <a:ext cx="8172360" cy="6633360"/>
              <a:chOff x="900000" y="230040"/>
              <a:chExt cx="8172360" cy="663336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900000" y="230040"/>
                <a:ext cx="8172360" cy="6633360"/>
                <a:chOff x="900000" y="230040"/>
                <a:chExt cx="8172360" cy="66333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700000" y="230040"/>
                  <a:ext cx="3529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 u="sng">
                      <a:solidFill>
                        <a:srgbClr val="ffff00"/>
                      </a:solidFill>
                      <a:uFillTx/>
                      <a:latin typeface="Times New Roman"/>
                    </a:rPr>
                    <a:t>PROBLEMA 1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3" name=""/>
                <p:cNvGrpSpPr/>
                <p:nvPr/>
              </p:nvGrpSpPr>
              <p:grpSpPr>
                <a:xfrm>
                  <a:off x="5580000" y="3254040"/>
                  <a:ext cx="3096720" cy="916920"/>
                  <a:chOff x="5580000" y="3254040"/>
                  <a:chExt cx="3096720" cy="9169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5580000" y="3254040"/>
                    <a:ext cx="3096720" cy="916920"/>
                  </a:xfrm>
                  <a:prstGeom prst="rect">
                    <a:avLst/>
                  </a:prstGeom>
                  <a:solidFill>
                    <a:srgbClr val="ffff00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rPr>
                      <a:t>Redondo de 40 mm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ra H = 0,5         dj = 12 mm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ra H = 0,7         dj = 10 mm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056000" y="4046400"/>
                    <a:ext cx="2797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056000" y="3757320"/>
                    <a:ext cx="281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>
                  <a:off x="5868720" y="6278400"/>
                  <a:ext cx="3203640" cy="58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Prof. J. A. Pero – Sanz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ceros. Metalurgia Física, Selección y Diseño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8" name=""/>
                <p:cNvGrpSpPr/>
                <p:nvPr/>
              </p:nvGrpSpPr>
              <p:grpSpPr>
                <a:xfrm>
                  <a:off x="900000" y="1382400"/>
                  <a:ext cx="4454280" cy="5040360"/>
                  <a:chOff x="900000" y="1382400"/>
                  <a:chExt cx="4454280" cy="5040360"/>
                </a:xfrm>
              </p:grpSpPr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82400"/>
                    <a:ext cx="44542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0" name=""/>
                  <p:cNvSpPr/>
                  <p:nvPr/>
                </p:nvSpPr>
                <p:spPr>
                  <a:xfrm>
                    <a:off x="1628640" y="4909680"/>
                    <a:ext cx="1224000" cy="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277720" y="4838400"/>
                    <a:ext cx="0" cy="7920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204640" y="4838400"/>
                    <a:ext cx="0" cy="7920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3" name=""/>
              <p:cNvSpPr/>
              <p:nvPr/>
            </p:nvSpPr>
            <p:spPr>
              <a:xfrm>
                <a:off x="1908000" y="6206760"/>
                <a:ext cx="252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Fig. VII.5 Curva de Lamont paea r:R = 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4500720" y="3213000"/>
              <a:ext cx="287280" cy="142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00720" y="3068640"/>
              <a:ext cx="287280" cy="142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484360" y="566100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566100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670040" y="0"/>
            <a:ext cx="7473960" cy="6678000"/>
            <a:chOff x="1670040" y="0"/>
            <a:chExt cx="7473960" cy="6678000"/>
          </a:xfrm>
        </p:grpSpPr>
        <p:sp>
          <p:nvSpPr>
            <p:cNvPr id="269" name=""/>
            <p:cNvSpPr/>
            <p:nvPr/>
          </p:nvSpPr>
          <p:spPr>
            <a:xfrm>
              <a:off x="2627280" y="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59280" y="6093000"/>
              <a:ext cx="338472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724360" y="3284640"/>
              <a:ext cx="3024360" cy="916920"/>
              <a:chOff x="5724360" y="3284640"/>
              <a:chExt cx="3024360" cy="916920"/>
            </a:xfrm>
          </p:grpSpPr>
          <p:sp>
            <p:nvSpPr>
              <p:cNvPr id="272" name=""/>
              <p:cNvSpPr/>
              <p:nvPr/>
            </p:nvSpPr>
            <p:spPr>
              <a:xfrm>
                <a:off x="5724360" y="3284640"/>
                <a:ext cx="3024360" cy="91692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Redondo de 40 mm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Para H = 0,5         dj = 8 mm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Para H = 0,7         dj = 4 mm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7173720" y="3789360"/>
                <a:ext cx="274680" cy="216000"/>
                <a:chOff x="7173720" y="3789360"/>
                <a:chExt cx="274680" cy="2160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173720" y="4005360"/>
                  <a:ext cx="272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173720" y="3789360"/>
                  <a:ext cx="27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670040" y="1125360"/>
              <a:ext cx="3749760" cy="5256360"/>
              <a:chOff x="1670040" y="1125360"/>
              <a:chExt cx="3749760" cy="5256360"/>
            </a:xfrm>
          </p:grpSpPr>
          <p:pic>
            <p:nvPicPr>
              <p:cNvPr id="2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0040" y="1125360"/>
                <a:ext cx="3749760" cy="52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2411280" y="5013360"/>
                <a:ext cx="505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24000" y="4869000"/>
                <a:ext cx="35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4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27280" y="4941720"/>
                <a:ext cx="0" cy="719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71640" y="4869000"/>
                <a:ext cx="0" cy="792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987640" y="1268280"/>
                <a:ext cx="216000" cy="21600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71640" y="1268280"/>
                <a:ext cx="216000" cy="21600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703520" y="1639800"/>
            <a:ext cx="430056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692360" y="2276640"/>
          <a:ext cx="5734080" cy="3544560"/>
        </p:xfrm>
        <a:graphic>
          <a:graphicData uri="http://schemas.openxmlformats.org/drawingml/2006/table">
            <a:tbl>
              <a:tblPr/>
              <a:tblGrid>
                <a:gridCol w="852480"/>
                <a:gridCol w="976320"/>
                <a:gridCol w="976320"/>
                <a:gridCol w="976320"/>
                <a:gridCol w="976320"/>
                <a:gridCol w="97632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/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 (mm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 /1/16”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C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O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O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O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O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pSp>
        <p:nvGrpSpPr>
          <p:cNvPr id="286" name=""/>
          <p:cNvGrpSpPr/>
          <p:nvPr/>
        </p:nvGrpSpPr>
        <p:grpSpPr>
          <a:xfrm>
            <a:off x="900000" y="404640"/>
            <a:ext cx="8064720" cy="6314400"/>
            <a:chOff x="900000" y="404640"/>
            <a:chExt cx="8064720" cy="6314400"/>
          </a:xfrm>
        </p:grpSpPr>
        <p:sp>
          <p:nvSpPr>
            <p:cNvPr id="287" name=""/>
            <p:cNvSpPr/>
            <p:nvPr/>
          </p:nvSpPr>
          <p:spPr>
            <a:xfrm>
              <a:off x="2808360" y="40464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00720" y="638172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talotecnia. E.T.S.I.M.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00000" y="1413000"/>
              <a:ext cx="734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Durezas de temple en periferia (r/R = 1) y   núcleo (r/R = 0) para H = 0,5 (aceite con agitación media) y H = 0,7 (aceite con agitación fuerte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1116000" y="189000"/>
            <a:ext cx="7848720" cy="6530040"/>
            <a:chOff x="1116000" y="189000"/>
            <a:chExt cx="7848720" cy="6530040"/>
          </a:xfrm>
        </p:grpSpPr>
        <p:sp>
          <p:nvSpPr>
            <p:cNvPr id="291" name=""/>
            <p:cNvSpPr/>
            <p:nvPr/>
          </p:nvSpPr>
          <p:spPr>
            <a:xfrm>
              <a:off x="2825640" y="189000"/>
              <a:ext cx="34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19640" y="5373720"/>
              <a:ext cx="23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urezas de reveni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1963800" y="981000"/>
              <a:ext cx="5214960" cy="4317840"/>
              <a:chOff x="1963800" y="981000"/>
              <a:chExt cx="5214960" cy="4317840"/>
            </a:xfrm>
          </p:grpSpPr>
          <p:pic>
            <p:nvPicPr>
              <p:cNvPr id="29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63800" y="981000"/>
                <a:ext cx="5214960" cy="431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2540160" y="2276280"/>
                <a:ext cx="14400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980160" y="2276280"/>
                <a:ext cx="0" cy="24494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35440" y="2060640"/>
                <a:ext cx="360360" cy="3603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1116000" y="5805360"/>
              <a:ext cx="6767640" cy="3682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Para 60 HRC en periferia, no deben sobrepasarse los 225 – 230 ºC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00720" y="638172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talotecnia. E.T.S.I.M.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611280" y="333360"/>
            <a:ext cx="8353440" cy="6385680"/>
            <a:chOff x="611280" y="333360"/>
            <a:chExt cx="8353440" cy="6385680"/>
          </a:xfrm>
        </p:grpSpPr>
        <p:sp>
          <p:nvSpPr>
            <p:cNvPr id="301" name=""/>
            <p:cNvSpPr/>
            <p:nvPr/>
          </p:nvSpPr>
          <p:spPr>
            <a:xfrm>
              <a:off x="2735280" y="33336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0720" y="638172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talotecnia. E.T.S.I.M.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1280" y="1700280"/>
              <a:ext cx="777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Considerando que el grado de ablandamiento es el mismo en la periferia que en el núcleo, se tien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77840" y="2311560"/>
            <a:ext cx="632916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971640" y="2852640"/>
          <a:ext cx="7200720" cy="2237040"/>
        </p:xfrm>
        <a:graphic>
          <a:graphicData uri="http://schemas.openxmlformats.org/drawingml/2006/table">
            <a:tbl>
              <a:tblPr/>
              <a:tblGrid>
                <a:gridCol w="1114200"/>
                <a:gridCol w="1014480"/>
                <a:gridCol w="1014480"/>
                <a:gridCol w="1014480"/>
                <a:gridCol w="882720"/>
                <a:gridCol w="1145880"/>
                <a:gridCol w="10144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C (T/per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er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 HR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C (T/núcl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C (Núcl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395280" y="333360"/>
            <a:ext cx="8569440" cy="6385680"/>
            <a:chOff x="395280" y="333360"/>
            <a:chExt cx="8569440" cy="6385680"/>
          </a:xfrm>
        </p:grpSpPr>
        <p:grpSp>
          <p:nvGrpSpPr>
            <p:cNvPr id="307" name=""/>
            <p:cNvGrpSpPr/>
            <p:nvPr/>
          </p:nvGrpSpPr>
          <p:grpSpPr>
            <a:xfrm>
              <a:off x="395280" y="333360"/>
              <a:ext cx="8424720" cy="5117760"/>
              <a:chOff x="395280" y="333360"/>
              <a:chExt cx="8424720" cy="5117760"/>
            </a:xfrm>
          </p:grpSpPr>
          <p:sp>
            <p:nvSpPr>
              <p:cNvPr id="308" name=""/>
              <p:cNvSpPr/>
              <p:nvPr/>
            </p:nvSpPr>
            <p:spPr>
              <a:xfrm>
                <a:off x="3062160" y="333360"/>
                <a:ext cx="3490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PROBLEMA 1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95280" y="1700280"/>
                <a:ext cx="8424720" cy="375084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 u="sng">
                    <a:solidFill>
                      <a:srgbClr val="ff3300"/>
                    </a:solidFill>
                    <a:uFillTx/>
                    <a:latin typeface="Times New Roman"/>
                  </a:rPr>
                  <a:t>Conclusiones</a:t>
                </a:r>
                <a:r>
                  <a:rPr b="0" lang="en-US" sz="4000" spc="-1" strike="noStrike">
                    <a:solidFill>
                      <a:srgbClr val="ff3300"/>
                    </a:solidFill>
                    <a:latin typeface="Arial"/>
                  </a:rPr>
                  <a:t>: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Se elegiría el </a:t>
                </a:r>
                <a:r>
                  <a:rPr b="1" lang="en-US" sz="4000" spc="-1" strike="noStrike" u="sng">
                    <a:solidFill>
                      <a:srgbClr val="0066ff"/>
                    </a:solidFill>
                    <a:uFillTx/>
                    <a:latin typeface="Times New Roman"/>
                  </a:rPr>
                  <a:t>acero O1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templado en aceite con agitación media (</a:t>
                </a:r>
                <a:r>
                  <a:rPr b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H = 0,5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) por tener menor gradiente de temperatura entre periferia y núcleo (menor riesgo de agrietamiento).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6300720" y="638172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talotecnia. E.T.S.I.M.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700360" y="2300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OBLEMA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9080" y="6278400"/>
            <a:ext cx="320364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f. J. A. Pero – San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ceros. Metalurgia Física, Selección y Diseñ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619280" y="1125360"/>
            <a:ext cx="4454640" cy="5040360"/>
            <a:chOff x="1619280" y="1125360"/>
            <a:chExt cx="4454640" cy="5040360"/>
          </a:xfrm>
        </p:grpSpPr>
        <p:grpSp>
          <p:nvGrpSpPr>
            <p:cNvPr id="314" name=""/>
            <p:cNvGrpSpPr/>
            <p:nvPr/>
          </p:nvGrpSpPr>
          <p:grpSpPr>
            <a:xfrm>
              <a:off x="1619280" y="1125360"/>
              <a:ext cx="4454640" cy="5040360"/>
              <a:chOff x="1619280" y="1125360"/>
              <a:chExt cx="4454640" cy="504036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1619280" y="1125360"/>
                <a:ext cx="4454640" cy="5040360"/>
                <a:chOff x="1619280" y="1125360"/>
                <a:chExt cx="4454640" cy="5040360"/>
              </a:xfrm>
            </p:grpSpPr>
            <p:pic>
              <p:nvPicPr>
                <p:cNvPr id="3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19280" y="1125360"/>
                  <a:ext cx="4454640" cy="504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"/>
                <p:cNvSpPr/>
                <p:nvPr/>
              </p:nvSpPr>
              <p:spPr>
                <a:xfrm>
                  <a:off x="2843280" y="4724280"/>
                  <a:ext cx="0" cy="649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219640" y="2924280"/>
                  <a:ext cx="287280" cy="215640"/>
                </a:xfrm>
                <a:prstGeom prst="ellipse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340000" y="4797360"/>
                  <a:ext cx="57636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556000" y="5877000"/>
                <a:ext cx="2520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Fig. VII.5 Curva de Lamont paea r:R = 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00360" y="537372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514600" y="0"/>
            <a:ext cx="6629400" cy="6863400"/>
            <a:chOff x="2514600" y="0"/>
            <a:chExt cx="6629400" cy="6863400"/>
          </a:xfrm>
        </p:grpSpPr>
        <p:sp>
          <p:nvSpPr>
            <p:cNvPr id="323" name=""/>
            <p:cNvSpPr/>
            <p:nvPr/>
          </p:nvSpPr>
          <p:spPr>
            <a:xfrm>
              <a:off x="3419640" y="5950080"/>
              <a:ext cx="360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2514600" y="0"/>
              <a:ext cx="6629400" cy="6863400"/>
              <a:chOff x="2514600" y="0"/>
              <a:chExt cx="6629400" cy="6863400"/>
            </a:xfrm>
          </p:grpSpPr>
          <p:sp>
            <p:nvSpPr>
              <p:cNvPr id="325" name=""/>
              <p:cNvSpPr/>
              <p:nvPr/>
            </p:nvSpPr>
            <p:spPr>
              <a:xfrm>
                <a:off x="2627280" y="0"/>
                <a:ext cx="3528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PROBLEMA 1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940360" y="6278400"/>
                <a:ext cx="3203640" cy="58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Prof. J. A. Pero – Sanz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ceros. Metalurgia Física, Selección y Diseño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2514600" y="1197000"/>
                <a:ext cx="3754440" cy="5256360"/>
                <a:chOff x="2514600" y="1197000"/>
                <a:chExt cx="3754440" cy="5256360"/>
              </a:xfrm>
            </p:grpSpPr>
            <p:pic>
              <p:nvPicPr>
                <p:cNvPr id="32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4600" y="1197000"/>
                  <a:ext cx="3754440" cy="525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9" name=""/>
                <p:cNvSpPr/>
                <p:nvPr/>
              </p:nvSpPr>
              <p:spPr>
                <a:xfrm>
                  <a:off x="3090960" y="53737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94240" y="5300640"/>
                  <a:ext cx="0" cy="649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754600" y="3357720"/>
                  <a:ext cx="360360" cy="287280"/>
                </a:xfrm>
                <a:prstGeom prst="ellipse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" name=""/>
            <p:cNvSpPr/>
            <p:nvPr/>
          </p:nvSpPr>
          <p:spPr>
            <a:xfrm>
              <a:off x="3132000" y="6165720"/>
              <a:ext cx="266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Distancia Jominy al extremo templado (mm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19640" y="5877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684360" y="0"/>
            <a:ext cx="8280360" cy="6719040"/>
            <a:chOff x="684360" y="0"/>
            <a:chExt cx="8280360" cy="6719040"/>
          </a:xfrm>
        </p:grpSpPr>
        <p:sp>
          <p:nvSpPr>
            <p:cNvPr id="128" name=""/>
            <p:cNvSpPr/>
            <p:nvPr/>
          </p:nvSpPr>
          <p:spPr>
            <a:xfrm>
              <a:off x="3135240" y="0"/>
              <a:ext cx="34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403280" y="1197000"/>
              <a:ext cx="6350040" cy="4317840"/>
              <a:chOff x="1403280" y="1197000"/>
              <a:chExt cx="6350040" cy="4317840"/>
            </a:xfrm>
          </p:grpSpPr>
          <p:pic>
            <p:nvPicPr>
              <p:cNvPr id="130" name="" descr=""/>
              <p:cNvPicPr/>
              <p:nvPr/>
            </p:nvPicPr>
            <p:blipFill>
              <a:blip r:embed="rId2"/>
              <a:srcRect l="0" t="0" r="0" b="4523"/>
              <a:stretch/>
            </p:blipFill>
            <p:spPr>
              <a:xfrm>
                <a:off x="1403280" y="1197000"/>
                <a:ext cx="6350040" cy="431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2467080" y="2011320"/>
                <a:ext cx="876240" cy="50004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778200" y="2781360"/>
                <a:ext cx="1008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Times New Roman"/>
                  </a:rPr>
                  <a:t>HRC = 4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81520" y="2886120"/>
                <a:ext cx="56340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281560" y="2760480"/>
                <a:ext cx="0" cy="219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684360" y="692280"/>
              <a:ext cx="80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Tratamiento previo al mecanizado, para dureza de 40 HR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360" y="5589720"/>
              <a:ext cx="76327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ustenización completa a 795 ºC – 1 h + tratamiento isotérmico a (425 – 430 ºC) – 15 / 20 min. + enfriamiento al aire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00720" y="638172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talotecnia. E.T.S.I.M.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2135160" y="189000"/>
            <a:ext cx="6937560" cy="6674400"/>
            <a:chOff x="2135160" y="189000"/>
            <a:chExt cx="6937560" cy="6674400"/>
          </a:xfrm>
        </p:grpSpPr>
        <p:sp>
          <p:nvSpPr>
            <p:cNvPr id="335" name=""/>
            <p:cNvSpPr/>
            <p:nvPr/>
          </p:nvSpPr>
          <p:spPr>
            <a:xfrm>
              <a:off x="2556000" y="189000"/>
              <a:ext cx="352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69080" y="6278400"/>
              <a:ext cx="320364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2135160" y="1268280"/>
              <a:ext cx="4309920" cy="5040360"/>
              <a:chOff x="2135160" y="1268280"/>
              <a:chExt cx="4309920" cy="5040360"/>
            </a:xfrm>
          </p:grpSpPr>
          <p:pic>
            <p:nvPicPr>
              <p:cNvPr id="3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135160" y="1268280"/>
                <a:ext cx="4309920" cy="504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3132000" y="5373720"/>
                <a:ext cx="505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64000" y="5300640"/>
                <a:ext cx="0" cy="647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51640" y="2852640"/>
                <a:ext cx="431640" cy="2890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2166840" y="0"/>
            <a:ext cx="6977160" cy="6678000"/>
            <a:chOff x="2166840" y="0"/>
            <a:chExt cx="6977160" cy="6678000"/>
          </a:xfrm>
        </p:grpSpPr>
        <p:grpSp>
          <p:nvGrpSpPr>
            <p:cNvPr id="343" name=""/>
            <p:cNvGrpSpPr/>
            <p:nvPr/>
          </p:nvGrpSpPr>
          <p:grpSpPr>
            <a:xfrm>
              <a:off x="2166840" y="0"/>
              <a:ext cx="6977160" cy="6678000"/>
              <a:chOff x="2166840" y="0"/>
              <a:chExt cx="6977160" cy="6678000"/>
            </a:xfrm>
          </p:grpSpPr>
          <p:sp>
            <p:nvSpPr>
              <p:cNvPr id="344" name=""/>
              <p:cNvSpPr/>
              <p:nvPr/>
            </p:nvSpPr>
            <p:spPr>
              <a:xfrm>
                <a:off x="2303640" y="0"/>
                <a:ext cx="3528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PROBLEMA 1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59280" y="6093000"/>
                <a:ext cx="3384720" cy="58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Prof. J. A. Pero – Sanz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ceros. Metalurgia Física, Selección y Diseño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2166840" y="1125360"/>
                <a:ext cx="3800520" cy="5328000"/>
                <a:chOff x="2166840" y="1125360"/>
                <a:chExt cx="3800520" cy="5328000"/>
              </a:xfrm>
            </p:grpSpPr>
            <p:pic>
              <p:nvPicPr>
                <p:cNvPr id="34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66840" y="1125360"/>
                  <a:ext cx="3800520" cy="532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" name=""/>
                <p:cNvSpPr/>
                <p:nvPr/>
              </p:nvSpPr>
              <p:spPr>
                <a:xfrm>
                  <a:off x="2958840" y="5229360"/>
                  <a:ext cx="43200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598480" y="5084640"/>
                  <a:ext cx="358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Times New Roman"/>
                    </a:rPr>
                    <a:t>3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247920" y="5084640"/>
                  <a:ext cx="0" cy="649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463920" y="1268280"/>
                  <a:ext cx="287280" cy="216000"/>
                </a:xfrm>
                <a:prstGeom prst="ellipse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3132000" y="573408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1547640" y="260280"/>
            <a:ext cx="7417080" cy="6458760"/>
            <a:chOff x="1547640" y="260280"/>
            <a:chExt cx="7417080" cy="6458760"/>
          </a:xfrm>
        </p:grpSpPr>
        <p:sp>
          <p:nvSpPr>
            <p:cNvPr id="354" name=""/>
            <p:cNvSpPr/>
            <p:nvPr/>
          </p:nvSpPr>
          <p:spPr>
            <a:xfrm>
              <a:off x="2919240" y="260280"/>
              <a:ext cx="34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00360" y="5445000"/>
              <a:ext cx="35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Times New Roman"/>
                </a:rPr>
                <a:t>Curvas Jominy: Aceros O1 y O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6" name="" descr=""/>
            <p:cNvPicPr/>
            <p:nvPr/>
          </p:nvPicPr>
          <p:blipFill>
            <a:blip r:embed="rId2"/>
            <a:srcRect l="0" t="13084" r="0" b="0"/>
            <a:stretch/>
          </p:blipFill>
          <p:spPr>
            <a:xfrm>
              <a:off x="1547640" y="1557360"/>
              <a:ext cx="58327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flipV="1">
              <a:off x="3276720" y="1989000"/>
              <a:ext cx="0" cy="2160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2626920" y="2133720"/>
              <a:ext cx="865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40000" y="19890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6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635280" y="2133720"/>
              <a:ext cx="0" cy="201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627280" y="2276640"/>
              <a:ext cx="11527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40000" y="213372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6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00720" y="638172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talotecnia. E.T.S.I.M.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539640" y="260280"/>
            <a:ext cx="8425080" cy="6458760"/>
            <a:chOff x="539640" y="260280"/>
            <a:chExt cx="8425080" cy="6458760"/>
          </a:xfrm>
        </p:grpSpPr>
        <p:grpSp>
          <p:nvGrpSpPr>
            <p:cNvPr id="365" name=""/>
            <p:cNvGrpSpPr/>
            <p:nvPr/>
          </p:nvGrpSpPr>
          <p:grpSpPr>
            <a:xfrm>
              <a:off x="539640" y="260280"/>
              <a:ext cx="8425080" cy="6458760"/>
              <a:chOff x="539640" y="260280"/>
              <a:chExt cx="8425080" cy="6458760"/>
            </a:xfrm>
          </p:grpSpPr>
          <p:sp>
            <p:nvSpPr>
              <p:cNvPr id="366" name=""/>
              <p:cNvSpPr/>
              <p:nvPr/>
            </p:nvSpPr>
            <p:spPr>
              <a:xfrm>
                <a:off x="2919240" y="260280"/>
                <a:ext cx="3490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PROBLEMA 1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300720" y="6381720"/>
                <a:ext cx="266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ffff"/>
                    </a:solidFill>
                    <a:latin typeface="Times New Roman"/>
                  </a:rPr>
                  <a:t>Metalotecnia. E.T.S.I.M.O.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39640" y="1700280"/>
                <a:ext cx="8064720" cy="4022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</a:rPr>
                  <a:t>Para una dureza en periferia de 60 HRC, el ablandamiento será: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</a:rPr>
                  <a:t>Para r/R = 1     dj = 6 mm      HRC = 66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</a:rPr>
                  <a:t>Ablandamiento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= (66 – 6) = </a:t>
                </a:r>
                <a:r>
                  <a:rPr b="1" lang="es-ES" sz="24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Arial"/>
                  </a:rPr>
                  <a:t>6 HRC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.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ara el resto de r/R      dj = 9 mm     HRC = 64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ureza final tras revenido: (64 – 6) = 58 HRC.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Lógicamente, al ser D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Times New Roman"/>
                    <a:ea typeface="Arial"/>
                  </a:rPr>
                  <a:t>ci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 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Arial"/>
                  </a:rPr>
                  <a:t>r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, se alcanza en todo el redondo el 99 % de transformación martensítica.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3708360" y="2852640"/>
              <a:ext cx="2521080" cy="1152720"/>
              <a:chOff x="3708360" y="2852640"/>
              <a:chExt cx="2521080" cy="1152720"/>
            </a:xfrm>
          </p:grpSpPr>
          <p:sp>
            <p:nvSpPr>
              <p:cNvPr id="370" name=""/>
              <p:cNvSpPr/>
              <p:nvPr/>
            </p:nvSpPr>
            <p:spPr>
              <a:xfrm>
                <a:off x="3708360" y="285264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64360" y="2852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211640" y="400536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0360" y="400536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539640" y="333360"/>
            <a:ext cx="8604360" cy="6385680"/>
            <a:chOff x="539640" y="333360"/>
            <a:chExt cx="8604360" cy="6385680"/>
          </a:xfrm>
        </p:grpSpPr>
        <p:sp>
          <p:nvSpPr>
            <p:cNvPr id="139" name=""/>
            <p:cNvSpPr/>
            <p:nvPr/>
          </p:nvSpPr>
          <p:spPr>
            <a:xfrm>
              <a:off x="3076560" y="33336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00720" y="638172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talotecnia. E.T.S.I.M.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9640" y="1413000"/>
              <a:ext cx="8604360" cy="18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00"/>
                  </a:solidFill>
                  <a:latin typeface="Times New Roman"/>
                </a:rPr>
                <a:t>Temperatura eutectoide, s/ Andrews: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s-ES" sz="3200" spc="-1" strike="noStrike" baseline="-25000">
                  <a:solidFill>
                    <a:srgbClr val="ffff00"/>
                  </a:solidFill>
                  <a:latin typeface="Times New Roman"/>
                </a:rPr>
                <a:t>e</a:t>
              </a:r>
              <a:r>
                <a:rPr b="1" lang="es-ES" sz="3200" spc="-1" strike="noStrike">
                  <a:solidFill>
                    <a:srgbClr val="ffff00"/>
                  </a:solidFill>
                  <a:latin typeface="Times New Roman"/>
                </a:rPr>
                <a:t> (ºC) = 727 – 10,7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. (%Mn) + 29,1 . (%Si) + + 16,9 . (%Cr) + 6,38 . (%W) ≈ </a:t>
              </a:r>
              <a:r>
                <a:rPr b="1" lang="en-US" sz="3200" spc="-1" strike="noStrike" u="sng">
                  <a:solidFill>
                    <a:srgbClr val="ffff00"/>
                  </a:solidFill>
                  <a:uFillTx/>
                  <a:latin typeface="Times New Roman"/>
                  <a:ea typeface="Arial"/>
                </a:rPr>
                <a:t>735 º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57280" y="3716280"/>
              <a:ext cx="6769080" cy="18180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Tratamiento de austenización incompleta: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T = 700 ºC          t = 10 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T = 650 ºC          t = 20 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716360" y="465300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530064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042920" y="333360"/>
            <a:ext cx="7921800" cy="6385680"/>
            <a:chOff x="1042920" y="333360"/>
            <a:chExt cx="7921800" cy="6385680"/>
          </a:xfrm>
        </p:grpSpPr>
        <p:sp>
          <p:nvSpPr>
            <p:cNvPr id="146" name=""/>
            <p:cNvSpPr/>
            <p:nvPr/>
          </p:nvSpPr>
          <p:spPr>
            <a:xfrm>
              <a:off x="2700360" y="33336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00720" y="638172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talotecnia. E.T.S.I.M.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116000" y="2276640"/>
              <a:ext cx="5527800" cy="2949480"/>
              <a:chOff x="1116000" y="2276640"/>
              <a:chExt cx="5527800" cy="294948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2124000" y="2348280"/>
                <a:ext cx="4519800" cy="2877840"/>
                <a:chOff x="2124000" y="2348280"/>
                <a:chExt cx="4519800" cy="287784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2"/>
                <a:srcRect l="0" t="13084" r="0" b="0"/>
                <a:stretch/>
              </p:blipFill>
              <p:spPr>
                <a:xfrm>
                  <a:off x="2124000" y="2348280"/>
                  <a:ext cx="4519800" cy="287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11280" y="2492640"/>
                  <a:ext cx="432000" cy="2160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1116000" y="2276640"/>
                <a:ext cx="1295280" cy="368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HRC = 66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43280" y="2637000"/>
                <a:ext cx="216000" cy="1443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042920" y="1557360"/>
              <a:ext cx="684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Times New Roman"/>
                </a:rPr>
                <a:t>Dureza de temple para ambos aceros (mismo %C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00360" y="5373720"/>
              <a:ext cx="35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Times New Roman"/>
                </a:rPr>
                <a:t>Curvas Jominy: Aceros O1 y O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2268360" y="333360"/>
            <a:ext cx="6875640" cy="6273000"/>
            <a:chOff x="2268360" y="333360"/>
            <a:chExt cx="6875640" cy="6273000"/>
          </a:xfrm>
        </p:grpSpPr>
        <p:sp>
          <p:nvSpPr>
            <p:cNvPr id="157" name=""/>
            <p:cNvSpPr/>
            <p:nvPr/>
          </p:nvSpPr>
          <p:spPr>
            <a:xfrm>
              <a:off x="2879640" y="33336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59280" y="6021360"/>
              <a:ext cx="338472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268360" y="1197000"/>
              <a:ext cx="4751280" cy="4595760"/>
              <a:chOff x="2268360" y="1197000"/>
              <a:chExt cx="4751280" cy="4595760"/>
            </a:xfrm>
          </p:grpSpPr>
          <p:pic>
            <p:nvPicPr>
              <p:cNvPr id="16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68360" y="1197000"/>
                <a:ext cx="4751280" cy="459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flipV="1">
                <a:off x="4571640" y="2206800"/>
                <a:ext cx="0" cy="2808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27280" y="2351160"/>
                <a:ext cx="1584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56000" y="2135160"/>
                <a:ext cx="28764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692360" y="333360"/>
            <a:ext cx="7272360" cy="6385680"/>
            <a:chOff x="1692360" y="333360"/>
            <a:chExt cx="7272360" cy="6385680"/>
          </a:xfrm>
        </p:grpSpPr>
        <p:sp>
          <p:nvSpPr>
            <p:cNvPr id="165" name=""/>
            <p:cNvSpPr/>
            <p:nvPr/>
          </p:nvSpPr>
          <p:spPr>
            <a:xfrm>
              <a:off x="2752560" y="33336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00720" y="638172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talotecnia. E.T.S.I.M.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692360" y="1341360"/>
              <a:ext cx="5649840" cy="3597120"/>
              <a:chOff x="1692360" y="1341360"/>
              <a:chExt cx="5649840" cy="3597120"/>
            </a:xfrm>
          </p:grpSpPr>
          <p:pic>
            <p:nvPicPr>
              <p:cNvPr id="168" name="" descr=""/>
              <p:cNvPicPr/>
              <p:nvPr/>
            </p:nvPicPr>
            <p:blipFill>
              <a:blip r:embed="rId2"/>
              <a:srcRect l="0" t="13084" r="0" b="0"/>
              <a:stretch/>
            </p:blipFill>
            <p:spPr>
              <a:xfrm>
                <a:off x="1692360" y="1341360"/>
                <a:ext cx="5649840" cy="359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2629080" y="1917360"/>
                <a:ext cx="11509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05440" y="1844640"/>
                <a:ext cx="0" cy="201744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348360" y="1773000"/>
                <a:ext cx="0" cy="208908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197080" y="1701720"/>
                <a:ext cx="432000" cy="3070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Arial"/>
                  </a:rPr>
                  <a:t>65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2465280" y="5157720"/>
              <a:ext cx="4103640" cy="10159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ff"/>
                  </a:solidFill>
                  <a:latin typeface="Times New Roman"/>
                </a:rPr>
                <a:t>Acero O1:</a:t>
              </a: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s-ES" sz="2400" spc="-1" strike="noStrike">
                  <a:solidFill>
                    <a:srgbClr val="ff00ff"/>
                  </a:solidFill>
                  <a:latin typeface="Times New Roman"/>
                </a:rPr>
                <a:t>dj = 6/16” (10 mm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66ff"/>
                  </a:solidFill>
                  <a:latin typeface="Times New Roman"/>
                </a:rPr>
                <a:t>Acero O2:</a:t>
              </a: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s-ES" sz="2400" spc="-1" strike="noStrike">
                  <a:solidFill>
                    <a:srgbClr val="0066ff"/>
                  </a:solidFill>
                  <a:latin typeface="Times New Roman"/>
                </a:rPr>
                <a:t>dj = 4/16” (6 mm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1332000" y="0"/>
            <a:ext cx="7812000" cy="6863400"/>
            <a:chOff x="1332000" y="0"/>
            <a:chExt cx="7812000" cy="6863400"/>
          </a:xfrm>
        </p:grpSpPr>
        <p:sp>
          <p:nvSpPr>
            <p:cNvPr id="175" name=""/>
            <p:cNvSpPr/>
            <p:nvPr/>
          </p:nvSpPr>
          <p:spPr>
            <a:xfrm>
              <a:off x="2484360" y="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9280" y="6278400"/>
              <a:ext cx="338472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332000" y="981000"/>
              <a:ext cx="4463640" cy="5594040"/>
              <a:chOff x="1332000" y="981000"/>
              <a:chExt cx="4463640" cy="5594040"/>
            </a:xfrm>
          </p:grpSpPr>
          <p:pic>
            <p:nvPicPr>
              <p:cNvPr id="1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2000" y="981000"/>
                <a:ext cx="4463640" cy="559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 flipV="1">
                <a:off x="2718360" y="4101120"/>
                <a:ext cx="0" cy="148284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103120" y="4180680"/>
                <a:ext cx="69264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103120" y="4492080"/>
                <a:ext cx="462600" cy="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87960" y="4414680"/>
                <a:ext cx="0" cy="116928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72360" y="4335480"/>
                <a:ext cx="308520" cy="31284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50480" y="4024080"/>
                <a:ext cx="306360" cy="31104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156360" y="3336840"/>
              <a:ext cx="2736720" cy="9460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66ff"/>
                  </a:solidFill>
                  <a:latin typeface="Times New Roman"/>
                </a:rPr>
                <a:t>O1: D</a:t>
              </a:r>
              <a:r>
                <a:rPr b="1" lang="es-ES" sz="2000" spc="-1" strike="noStrike" baseline="-25000">
                  <a:solidFill>
                    <a:srgbClr val="0066ff"/>
                  </a:solidFill>
                  <a:latin typeface="Times New Roman"/>
                </a:rPr>
                <a:t>ci</a:t>
              </a:r>
              <a:r>
                <a:rPr b="1" lang="es-ES" sz="2000" spc="-1" strike="noStrike">
                  <a:solidFill>
                    <a:srgbClr val="0066ff"/>
                  </a:solidFill>
                  <a:latin typeface="Times New Roman"/>
                </a:rPr>
                <a:t> = 65 mm (2,6”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ff"/>
                  </a:solidFill>
                  <a:latin typeface="Times New Roman"/>
                </a:rPr>
                <a:t>O2: D</a:t>
              </a:r>
              <a:r>
                <a:rPr b="1" lang="es-ES" sz="2000" spc="-1" strike="noStrike" baseline="-25000">
                  <a:solidFill>
                    <a:srgbClr val="ff00ff"/>
                  </a:solidFill>
                  <a:latin typeface="Times New Roman"/>
                </a:rPr>
                <a:t>ci</a:t>
              </a:r>
              <a:r>
                <a:rPr b="1" lang="es-ES" sz="2000" spc="-1" strike="noStrike">
                  <a:solidFill>
                    <a:srgbClr val="ff00ff"/>
                  </a:solidFill>
                  <a:latin typeface="Times New Roman"/>
                </a:rPr>
                <a:t> = 50 mm (2,0”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476360" y="0"/>
            <a:ext cx="7667640" cy="6863400"/>
            <a:chOff x="1476360" y="0"/>
            <a:chExt cx="7667640" cy="6863400"/>
          </a:xfrm>
        </p:grpSpPr>
        <p:sp>
          <p:nvSpPr>
            <p:cNvPr id="187" name=""/>
            <p:cNvSpPr/>
            <p:nvPr/>
          </p:nvSpPr>
          <p:spPr>
            <a:xfrm>
              <a:off x="2982960" y="0"/>
              <a:ext cx="34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43520" y="522936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Fig. II.17.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1476360" y="907920"/>
              <a:ext cx="6502320" cy="43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843280" y="5516640"/>
              <a:ext cx="3744720" cy="9460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66ff"/>
                  </a:solidFill>
                  <a:latin typeface="Times New Roman"/>
                </a:rPr>
                <a:t>Acero O1: D</a:t>
              </a:r>
              <a:r>
                <a:rPr b="1" lang="es-ES" sz="2000" spc="-1" strike="noStrike" baseline="-25000">
                  <a:solidFill>
                    <a:srgbClr val="0066ff"/>
                  </a:solidFill>
                  <a:latin typeface="Times New Roman"/>
                </a:rPr>
                <a:t>cr</a:t>
              </a:r>
              <a:r>
                <a:rPr b="1" lang="es-ES" sz="2000" spc="-1" strike="noStrike">
                  <a:solidFill>
                    <a:srgbClr val="0066ff"/>
                  </a:solidFill>
                  <a:latin typeface="Times New Roman"/>
                </a:rPr>
                <a:t> = 1,30” (33 mm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ff"/>
                  </a:solidFill>
                  <a:latin typeface="Times New Roman"/>
                </a:rPr>
                <a:t>Acero O2: D</a:t>
              </a:r>
              <a:r>
                <a:rPr b="1" lang="es-ES" sz="2000" spc="-1" strike="noStrike" baseline="-25000">
                  <a:solidFill>
                    <a:srgbClr val="ff00ff"/>
                  </a:solidFill>
                  <a:latin typeface="Times New Roman"/>
                </a:rPr>
                <a:t>cr</a:t>
              </a:r>
              <a:r>
                <a:rPr b="1" lang="es-ES" sz="2000" spc="-1" strike="noStrike">
                  <a:solidFill>
                    <a:srgbClr val="ff00ff"/>
                  </a:solidFill>
                  <a:latin typeface="Times New Roman"/>
                </a:rPr>
                <a:t> = 0,85” (22 mm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12000" y="6278400"/>
              <a:ext cx="313200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508720" y="3141720"/>
              <a:ext cx="0" cy="1511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164000" y="1557360"/>
              <a:ext cx="360360" cy="358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24720" y="1268280"/>
              <a:ext cx="71928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H = 0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16720" y="2349000"/>
              <a:ext cx="0" cy="237492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123640" y="2492280"/>
              <a:ext cx="453708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8720" y="2349360"/>
              <a:ext cx="50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1,3”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0720" y="47242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2,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72360" y="2349360"/>
              <a:ext cx="287280" cy="28908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64000" y="3068640"/>
              <a:ext cx="287640" cy="28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08720" y="3068640"/>
              <a:ext cx="0" cy="15843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24000" y="285264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24000" y="3213000"/>
              <a:ext cx="34560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92360" y="306864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0,85”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476360" y="0"/>
            <a:ext cx="7667640" cy="6863400"/>
            <a:chOff x="1476360" y="0"/>
            <a:chExt cx="7667640" cy="6863400"/>
          </a:xfrm>
        </p:grpSpPr>
        <p:sp>
          <p:nvSpPr>
            <p:cNvPr id="206" name=""/>
            <p:cNvSpPr/>
            <p:nvPr/>
          </p:nvSpPr>
          <p:spPr>
            <a:xfrm>
              <a:off x="2990880" y="0"/>
              <a:ext cx="34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95640" y="479736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Fig. II.17.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508720" y="2882520"/>
              <a:ext cx="0" cy="1506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24000" y="3071880"/>
              <a:ext cx="352764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1476360" y="1062000"/>
              <a:ext cx="6502320" cy="376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flipH="1">
              <a:off x="7164360" y="1251000"/>
              <a:ext cx="432000" cy="376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96360" y="1125360"/>
              <a:ext cx="718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H = 0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516720" y="2003400"/>
              <a:ext cx="0" cy="238608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23640" y="2130480"/>
              <a:ext cx="453708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92360" y="200340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1,52”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00720" y="43275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2,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72360" y="2003400"/>
              <a:ext cx="287280" cy="25236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64000" y="2693880"/>
              <a:ext cx="287640" cy="250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08720" y="2759040"/>
              <a:ext cx="0" cy="16304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24000" y="2820960"/>
              <a:ext cx="0" cy="18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24000" y="2820960"/>
              <a:ext cx="34560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92360" y="263196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1,05”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00360" y="5207040"/>
              <a:ext cx="4392720" cy="111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66ff"/>
                  </a:solidFill>
                  <a:latin typeface="Times New Roman"/>
                </a:rPr>
                <a:t>Acero O1: D</a:t>
              </a:r>
              <a:r>
                <a:rPr b="1" lang="es-ES" sz="2400" spc="-1" strike="noStrike" baseline="-25000">
                  <a:solidFill>
                    <a:srgbClr val="0066ff"/>
                  </a:solidFill>
                  <a:latin typeface="Times New Roman"/>
                </a:rPr>
                <a:t>cr</a:t>
              </a:r>
              <a:r>
                <a:rPr b="1" lang="es-ES" sz="2400" spc="-1" strike="noStrike">
                  <a:solidFill>
                    <a:srgbClr val="0066ff"/>
                  </a:solidFill>
                  <a:latin typeface="Times New Roman"/>
                </a:rPr>
                <a:t> = 1,52” (39 mm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ff"/>
                  </a:solidFill>
                  <a:latin typeface="Times New Roman"/>
                </a:rPr>
                <a:t>Acero O2: D</a:t>
              </a:r>
              <a:r>
                <a:rPr b="1" lang="es-ES" sz="2400" spc="-1" strike="noStrike" baseline="-25000">
                  <a:solidFill>
                    <a:srgbClr val="ff00ff"/>
                  </a:solidFill>
                  <a:latin typeface="Times New Roman"/>
                </a:rPr>
                <a:t>cr</a:t>
              </a:r>
              <a:r>
                <a:rPr b="1" lang="es-ES" sz="2400" spc="-1" strike="noStrike">
                  <a:solidFill>
                    <a:srgbClr val="ff00ff"/>
                  </a:solidFill>
                  <a:latin typeface="Times New Roman"/>
                </a:rPr>
                <a:t> = 1,05” (27 mm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59280" y="6278400"/>
              <a:ext cx="338472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2:04:14Z</dcterms:created>
  <dc:creator>Jose Ovidio</dc:creator>
  <dc:description/>
  <dc:language>en-US</dc:language>
  <cp:lastModifiedBy>José Ovidio García</cp:lastModifiedBy>
  <dcterms:modified xsi:type="dcterms:W3CDTF">2005-07-10T18:11:22Z</dcterms:modified>
  <cp:revision>58</cp:revision>
  <dc:subject/>
  <dc:title>Diapositiva 1</dc:title>
</cp:coreProperties>
</file>